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16B0-D133-4DAC-8B84-18BD92DBCD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65E9-4CE7-4AA8-994F-7B00BE9C03F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gain, discussions can be monitored and corrections for errors elicited post 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9087-5370-4E5E-8A75-4758C396414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E9C8-AF99-4903-9A9D-EA7C6135596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04DB-D903-4785-9561-7A16ACEAD6B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2B2-E1D1-44CB-80AB-E932CFA1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7F0-14E4-46D2-9958-541ECA67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196-D84A-40CE-A005-07EB73A2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AD1-78E8-4F79-9E86-1C39D6BC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EE5-457F-414E-930A-C243DCF4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3CF-0A0C-42C7-943A-4714C6CC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CD4-A327-4C33-A571-798DDCF9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C31-67D3-4143-952F-3092737D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D90-6D89-45A4-9061-9CAFF793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DC9A-2208-4F2E-AA2F-0BF333A5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7E3-AF74-4CBB-BFDF-D0B0C602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387-6A2B-44C9-98CF-4C5DE283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97A4-9517-45B9-B8D8-A13A81FED87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Country_profile:_Mauritius" TargetMode="External"/><Relationship Id="rId2" Type="http://schemas.openxmlformats.org/officeDocument/2006/relationships/hyperlink" Target="http://eewiki.newint.org/index.php/Country_profile_-_Indonesia" TargetMode="External"/><Relationship Id="rId3" Type="http://schemas.openxmlformats.org/officeDocument/2006/relationships/hyperlink" Target="http://eewiki.newint.org/index.php/Country_profile_-_Indonesia" TargetMode="External"/><Relationship Id="rId4" Type="http://schemas.openxmlformats.org/officeDocument/2006/relationships/hyperlink" Target="http://eewiki.newint.org/index.php/Country_profile_-_Malawi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Country_profile:_Mauritius" TargetMode="External"/><Relationship Id="rId2" Type="http://schemas.openxmlformats.org/officeDocument/2006/relationships/hyperlink" Target="http://eewiki.newint.org/index.php/Country_profile_-_Indonesia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78136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alibri"/>
              </a:rPr>
              <a:t>QUIZ: Indonesia, Malawi or Mauritiu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640" y="5516640"/>
            <a:ext cx="7408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6011640" cy="151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3132000" y="189000"/>
            <a:ext cx="6012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hich countries were these photos taken i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95280" y="1263600"/>
            <a:ext cx="3121200" cy="3119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3203640" y="2557440"/>
            <a:ext cx="2508120" cy="37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4"/>
          <a:stretch/>
        </p:blipFill>
        <p:spPr>
          <a:xfrm>
            <a:off x="17640" y="44323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443640" y="4307040"/>
            <a:ext cx="24112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What do you know about these countries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law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762200" y="1557360"/>
            <a:ext cx="1936800" cy="1936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875640" y="1089000"/>
            <a:ext cx="208908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4067280" y="3994200"/>
            <a:ext cx="1865160" cy="27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031760" y="461016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5"/>
          <a:stretch/>
        </p:blipFill>
        <p:spPr>
          <a:xfrm>
            <a:off x="6500880" y="3284640"/>
            <a:ext cx="2463840" cy="246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6"/>
          <a:stretch/>
        </p:blipFill>
        <p:spPr>
          <a:xfrm>
            <a:off x="412920" y="1754280"/>
            <a:ext cx="1149120" cy="771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7"/>
          <a:stretch/>
        </p:blipFill>
        <p:spPr>
          <a:xfrm>
            <a:off x="2725560" y="3713040"/>
            <a:ext cx="1202040" cy="803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8"/>
          <a:stretch/>
        </p:blipFill>
        <p:spPr>
          <a:xfrm>
            <a:off x="5280120" y="2139840"/>
            <a:ext cx="1306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hich (of Malawi, Indonesia or Mauritius) are the following statements about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413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pulation: 239.9 million / life expectancy: 6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pulation: 14.9 million / life expectancy: 5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pulation: 1.3 million / life expectancy: 7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’s the biggest investor in I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lmost half the population live on under 2 dollars a 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dodo became extinct here in 178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 became independent from the British in 196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 had the first female President in southern Africa (Joyce Band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quickly scan the 3 articles to find 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7640" y="1700280"/>
            <a:ext cx="878508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auritiu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Country_profile:_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eewiki.newint.org/index.php/Country_profile_-_Indones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Calibri"/>
              </a:rPr>
              <a:t>Malawi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ewiki.newint.org/index.php/Country_profile_-_Malaw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5"/>
          <a:stretch/>
        </p:blipFill>
        <p:spPr>
          <a:xfrm>
            <a:off x="2774880" y="4292640"/>
            <a:ext cx="1146240" cy="768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3059280" y="2973240"/>
            <a:ext cx="1304640" cy="871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7"/>
          <a:stretch/>
        </p:blipFill>
        <p:spPr>
          <a:xfrm>
            <a:off x="3059280" y="1628640"/>
            <a:ext cx="120168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5843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: 239.9 million / life expectancy: 6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: 14.9 million / life expectancy: 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: 1.3 million / life expectancy: 7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’s the biggest investor in I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most half the population live on under 2 dollars a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odo became extinct here in 17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became independent from the British in 19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had the first female President in southern Africa (Joyce Ban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659280" y="1599840"/>
            <a:ext cx="202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law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law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5651640" y="165240"/>
            <a:ext cx="13237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read, compare and learn new language from all 3 artic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sier English artic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uritius: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Country_profile:_Maurit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ewiki.newint.org/index.php/Country_profile_-_Indone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lawi: http://eewiki.newint.org/index.php/Country_profile_-_Malaw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riginal artic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uritiu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newint.org/columns/country/2013/04/01/country-profile-mauritius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newint.org/columns/country/2013/05/01/country-profile-indonesia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law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newint.org/columns/country/2013/06/01/malawi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276720" y="4941720"/>
            <a:ext cx="10713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4:37:08Z</dcterms:created>
  <dc:creator>Linda Ruas</dc:creator>
  <dc:description/>
  <dc:language>en-US</dc:language>
  <cp:lastModifiedBy>Linda Ruas</cp:lastModifiedBy>
  <dcterms:modified xsi:type="dcterms:W3CDTF">2014-05-26T14:19:17Z</dcterms:modified>
  <cp:revision>28</cp:revision>
  <dc:subject/>
  <dc:title>Countries</dc:title>
</cp:coreProperties>
</file>